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0AE-82EE-4BB7-B1F4-8B2E46A3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721-53FC-4810-8C35-13825C34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D3E-7E4D-46A6-B854-28659FCE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9C5-D07A-4E0A-B31B-45B17163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8FA-0159-4A22-9A12-C4F6FE79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B52-98F5-4945-B9E5-509DD4A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7BC-CA6C-4C27-8CB9-3CD0406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D20-DA0A-4B4D-B205-3B45D81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A4D-568C-4C51-A14C-E76DE0D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B2E-6534-446B-8EA4-D07BD9C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EB7-40B1-4A4A-9757-69D380B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428-6AC1-4C24-AD50-06B60078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75D-751C-4054-9252-699BECB86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rown Wall stone border ppt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0976600">
            <a:off x="380520" y="3504960"/>
            <a:ext cx="2482920" cy="30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3" name="" descr="Diego Rivera  : Peasants"/>
          <p:cNvPicPr/>
          <p:nvPr/>
        </p:nvPicPr>
        <p:blipFill>
          <a:blip r:embed="rId3">
            <a:grayscl/>
          </a:blip>
          <a:stretch/>
        </p:blipFill>
        <p:spPr>
          <a:xfrm rot="554400">
            <a:off x="3124080" y="2514240"/>
            <a:ext cx="3200400" cy="2165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>
            <a:lum contrast="-18000"/>
          </a:blip>
          <a:stretch/>
        </p:blipFill>
        <p:spPr>
          <a:xfrm rot="20820000">
            <a:off x="6400440" y="304560"/>
            <a:ext cx="2328840" cy="29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4647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lephant"/>
              </a:rPr>
              <a:t>Peasants</a:t>
            </a:r>
            <a:endParaRPr b="0" i="1" lang="en-US" sz="6000" spc="1" strike="noStrike">
              <a:ln w="0">
                <a:noFill/>
              </a:ln>
              <a:solidFill>
                <a:srgbClr val="ffff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2057400"/>
            <a:ext cx="335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r Diego River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572000"/>
            <a:ext cx="228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sica 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9 de marzo de dos mil d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Elephant"/>
              </a:rPr>
              <a:t>Biografìa</a:t>
            </a:r>
            <a:r>
              <a:rPr b="0" lang="en-US" sz="55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de 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Diego Rivera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(1886-1957)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3581280" cy="53640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86: Nació en Guanajuato,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udió en muchos paìses en Europa cuando es un ni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 a la México y trabajó con otro artistas mexicanos famosos, Siqueiros y Oroz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ntó las obras sobre los etnias diferentes, especialmente la historia de los mexicanos con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su 20 años, empezó pintar muchos murales en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9: Vivió con Frida Kah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30: Fue a la Nueva York a pintó los retratos y los m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 Murió en la Ciudad de México, 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1382800">
            <a:off x="4419360" y="1066680"/>
            <a:ext cx="22939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8800">
            <a:off x="6829200" y="1295280"/>
            <a:ext cx="2314440" cy="196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495680" y="3581280"/>
            <a:ext cx="1524240" cy="15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238880" y="35812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019920" y="3581280"/>
            <a:ext cx="1212840" cy="160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5410080"/>
            <a:ext cx="4038480" cy="11102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cima izquierda): Diego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encima derecha): Diego Rivera/Frida Kah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debajo): los cuadros, retratos, y murales de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595b9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Diego Rivera  : Peasants"/>
          <p:cNvPicPr/>
          <p:nvPr/>
        </p:nvPicPr>
        <p:blipFill>
          <a:blip r:embed="rId1"/>
          <a:stretch/>
        </p:blipFill>
        <p:spPr>
          <a:xfrm>
            <a:off x="1295280" y="990720"/>
            <a:ext cx="6705720" cy="45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828800" y="57150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iondi"/>
              </a:rPr>
              <a:t>Tipo</a:t>
            </a:r>
            <a:r>
              <a:rPr b="1" lang="en-US" sz="2400" spc="-1" strike="noStrike">
                <a:solidFill>
                  <a:srgbClr val="000000"/>
                </a:solidFill>
                <a:latin typeface="Biondi"/>
              </a:rPr>
              <a:t>: una pintura/un cua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iondi"/>
              </a:rPr>
              <a:t>Género</a:t>
            </a:r>
            <a:r>
              <a:rPr b="1" lang="en-US" sz="2400" spc="-1" strike="noStrike">
                <a:solidFill>
                  <a:srgbClr val="000000"/>
                </a:solidFill>
                <a:latin typeface="Biondi"/>
              </a:rPr>
              <a:t>: realista/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522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lephant"/>
              </a:rPr>
              <a:t>Peas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Diego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lassy and authorita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1522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MT Black"/>
              </a:rPr>
              <a:t>Descri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Diego Rivera  : Peasants"/>
          <p:cNvPicPr/>
          <p:nvPr/>
        </p:nvPicPr>
        <p:blipFill>
          <a:blip r:embed="rId2"/>
          <a:stretch/>
        </p:blipFill>
        <p:spPr>
          <a:xfrm>
            <a:off x="304920" y="990720"/>
            <a:ext cx="4267080" cy="288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952880" y="1143000"/>
            <a:ext cx="38102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de 1931 (cuando Rivera es en Nueva Yor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una pintura de ac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dos mex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trabajan en 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muy difícil: ponen los sombreros para el c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la ropa blanca y g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267080"/>
            <a:ext cx="7467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no zapatas o caras en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montañas café detrás d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tonos diferentes de anaranjado, café, y rojo (el ca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sobre la historia de los mex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MT Black"/>
              </a:rPr>
              <a:t>El Tema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de</a:t>
            </a:r>
            <a:r>
              <a:rPr b="0" i="1" lang="en-US" sz="2000" spc="-1" strike="noStrike">
                <a:solidFill>
                  <a:srgbClr val="000000"/>
                </a:solidFill>
                <a:latin typeface="Elephant"/>
              </a:rPr>
              <a:t> “Peasa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523880"/>
            <a:ext cx="4800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x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 historia de la vida de los méx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s problemas de los méxic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3810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obr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r/tristeza de trabaj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clase b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667240" cy="181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4800600"/>
            <a:ext cx="3124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icul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05320" y="4572000"/>
            <a:ext cx="2133360" cy="1598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2210040" cy="161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Diego Rivera  : Peasants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3581280"/>
            <a:ext cx="3504960" cy="1865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809880" cy="2159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Mi Opin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523880"/>
            <a:ext cx="3809880" cy="21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colores del ca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í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as tonos diferentes (anaranjado, café, amarill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581280"/>
            <a:ext cx="3429000" cy="185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tem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intere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ual otros obras de Ri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504960" y="5335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 Rivera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as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.d. Photograph. Oil Paintings Thai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ego Riv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.d. Photograph. AP/Wide World Pho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fíayVidas, . "Diego Rivera." 24 3 2012: n. page. Web. 29 Mar.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ra.freepeople.net, . "Diego Rivera." 25 3 2012: n. page. Web. 29 Mar. 20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-2019240" y="293364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Bibliografía</a:t>
            </a:r>
            <a:endParaRPr b="1" lang="en-US" sz="2800" spc="1" strike="noStrike">
              <a:ln w="12600">
                <a:solidFill>
                  <a:srgbClr val="c4b596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3:52:07Z</dcterms:created>
  <dc:creator>Jessica</dc:creator>
  <dc:description/>
  <dc:language>en-US</dc:language>
  <cp:lastModifiedBy>Jessica</cp:lastModifiedBy>
  <dcterms:modified xsi:type="dcterms:W3CDTF">2012-03-29T21:37:27Z</dcterms:modified>
  <cp:revision>7</cp:revision>
  <dc:subject/>
  <dc:title>Slide 1</dc:title>
</cp:coreProperties>
</file>